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chimes.wav" ContentType="audio/x-wav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applaus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6654-445F-4260-BADF-6DA47B0CD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472C-B895-4C35-98D9-544F2359A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9A56-90F7-4055-94C1-CABCF9E3B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EDA9-6FE9-46C6-BAA9-C45C1DCD8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48A9-D817-49C4-9736-03571B1C3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6917-2A31-4DA6-83EE-7E59E7779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A8DD-D591-41D1-9829-E7878F11B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DDB1-8EB0-4B41-8BC4-DC6156DDF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9648-3D58-4616-8104-F28135F67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A9D9-A92B-4FDF-99DB-0B9FA3DF1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27AC-46D2-45D4-8ABD-DEFE17C7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B290-416A-4D5F-B6C5-68525E60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8FB4B-8057-465B-87AB-2E9C73D148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attice Multi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2057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-by-St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00400" y="3276720"/>
            <a:ext cx="2971800" cy="255564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56 * 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219320" y="2514600"/>
            <a:ext cx="655308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19320" y="39625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429000" y="25146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638680" y="25146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228600" y="2514600"/>
            <a:ext cx="320040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304920" y="2514600"/>
            <a:ext cx="5333760" cy="350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1828800" y="2514600"/>
            <a:ext cx="594360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4419360" y="3962520"/>
            <a:ext cx="335268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447920" y="1523880"/>
            <a:ext cx="16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600200" y="1676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809880" y="16002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019920" y="1676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391520" y="28954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391520" y="41911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715000" y="251460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705720" y="3048120"/>
            <a:ext cx="99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48320" y="2971800"/>
            <a:ext cx="99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429000" y="251460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438280" y="30481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219320" y="2514600"/>
            <a:ext cx="99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781680" y="44197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715000" y="39625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62120" y="129528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y 3 * 5 and place the answer in the grid where the lines me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44197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39625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438280" y="44197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39625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56 * 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219320" y="2514600"/>
            <a:ext cx="655308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219320" y="39625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29000" y="25146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638680" y="25146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228600" y="2514600"/>
            <a:ext cx="320040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304920" y="2514600"/>
            <a:ext cx="5333760" cy="350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1828800" y="2514600"/>
            <a:ext cx="594360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4419360" y="3962520"/>
            <a:ext cx="335268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447920" y="1523880"/>
            <a:ext cx="16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600200" y="1676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809880" y="16002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019920" y="1676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391520" y="28954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41911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715000" y="251460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3048120"/>
            <a:ext cx="99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48320" y="2971800"/>
            <a:ext cx="99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429000" y="251460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438280" y="30481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219320" y="2514600"/>
            <a:ext cx="99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781680" y="44197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715000" y="39625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62120" y="11430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add the diagonals and place the answer below the grid.  Be sure to carry to the next diagonal if you have a 2 digit answ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0" y="44197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39625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438280" y="44197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295280" y="39625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548640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56 * 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219320" y="2514600"/>
            <a:ext cx="655308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219320" y="39625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25146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638680" y="25146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228600" y="2514600"/>
            <a:ext cx="320040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304920" y="2514600"/>
            <a:ext cx="5333760" cy="350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1828800" y="2514600"/>
            <a:ext cx="594360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4419360" y="3962520"/>
            <a:ext cx="335268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447920" y="1523880"/>
            <a:ext cx="16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600200" y="1676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809880" y="16002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391520" y="28954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91520" y="41911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715000" y="251460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705720" y="3048120"/>
            <a:ext cx="99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648320" y="2971800"/>
            <a:ext cx="99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429000" y="251460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438280" y="30481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219320" y="2514600"/>
            <a:ext cx="99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781680" y="44197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15000" y="39625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62120" y="11430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add the diagonals and place the answer below the grid.  Be sure to carry to the next diagonal if you have a 2 digit answ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572000" y="44197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429000" y="39625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38280" y="44197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295280" y="39625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943600" y="548640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429000" y="541008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25146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56 * 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219320" y="2514600"/>
            <a:ext cx="655308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219320" y="39625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429000" y="25146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638680" y="25146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228600" y="2514600"/>
            <a:ext cx="320040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304920" y="2514600"/>
            <a:ext cx="5333760" cy="350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1828800" y="2514600"/>
            <a:ext cx="594360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4419360" y="3962520"/>
            <a:ext cx="335268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447920" y="1523880"/>
            <a:ext cx="16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600200" y="1676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809880" y="16002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019920" y="1676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391520" y="28954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391520" y="41911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715000" y="251460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705720" y="3048120"/>
            <a:ext cx="99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648320" y="2971800"/>
            <a:ext cx="99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429000" y="251460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438280" y="30481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219320" y="2514600"/>
            <a:ext cx="99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781680" y="44197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715000" y="39625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62120" y="11430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add the diagonals and place the answer below the grid.  Be sure to carry to the next diagonal if you have a 2 digit answ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572000" y="44197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429000" y="39625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44197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295280" y="39625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943600" y="548640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29000" y="541008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477120" y="25146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541008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56 * 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219320" y="2514600"/>
            <a:ext cx="655308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219320" y="39625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429000" y="25146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638680" y="25146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228600" y="2514600"/>
            <a:ext cx="320040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304920" y="2514600"/>
            <a:ext cx="5333760" cy="350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1828800" y="2514600"/>
            <a:ext cx="594360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4419360" y="3962520"/>
            <a:ext cx="335268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447920" y="1523880"/>
            <a:ext cx="16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600200" y="1676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809880" y="16002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019920" y="1676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391520" y="28954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391520" y="41911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715000" y="251460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705720" y="3048120"/>
            <a:ext cx="99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648320" y="2971800"/>
            <a:ext cx="99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429000" y="251460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438280" y="30481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219320" y="2514600"/>
            <a:ext cx="99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781680" y="44197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715000" y="39625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62120" y="11430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add the diagonals and place the answer below the grid.  Be sure to carry to the next diagonal if you have a 2 digit answ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572000" y="44197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429000" y="39625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438280" y="44197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295280" y="39625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943600" y="548640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29000" y="541008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477120" y="25146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295280" y="541008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28600" y="44197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56 * 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219320" y="2514600"/>
            <a:ext cx="655308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219320" y="3962520"/>
            <a:ext cx="6553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429000" y="2514600"/>
            <a:ext cx="144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638680" y="2514600"/>
            <a:ext cx="180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228600" y="2514600"/>
            <a:ext cx="320040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304920" y="2514600"/>
            <a:ext cx="5333760" cy="350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1828800" y="2514600"/>
            <a:ext cx="594360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4419360" y="3962520"/>
            <a:ext cx="335268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447920" y="1523880"/>
            <a:ext cx="16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600200" y="1676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809880" y="16002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019920" y="1676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391520" y="28954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391520" y="41911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715000" y="251460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705720" y="3048120"/>
            <a:ext cx="99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648320" y="2971800"/>
            <a:ext cx="99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429000" y="251460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438280" y="30481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219320" y="2514600"/>
            <a:ext cx="99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781680" y="44197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715000" y="39625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62120" y="11430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add the diagonals and place the answer below the grid.  Be sure to carry to the next diagonal if you have a 2 digit answ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572000" y="44197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429000" y="39625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438280" y="44197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39625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43600" y="548640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429000" y="541008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477120" y="25146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295280" y="541008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28600" y="44197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1" name="chimes.wav"/>
      </p:stSnd>
    </p:sndAc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" dur="2000" fill="hold"/>
                                        <p:tgtEl>
                                          <p:spTgt spid="3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2000" fill="hold"/>
                                        <p:tgtEl>
                                          <p:spTgt spid="3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2000" fill="hold"/>
                                        <p:tgtEl>
                                          <p:spTgt spid="3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" dur="2000" fill="hold"/>
                                        <p:tgtEl>
                                          <p:spTgt spid="3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0" y="1752480"/>
            <a:ext cx="6019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356 * 25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2120" y="3048120"/>
            <a:ext cx="3794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8,9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4724280" y="2971800"/>
            <a:ext cx="3175200" cy="352440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5638680" y="304920"/>
            <a:ext cx="3200400" cy="2133360"/>
          </a:xfrm>
          <a:prstGeom prst="wedgeEllipseCallout">
            <a:avLst>
              <a:gd name="adj1" fmla="val -14037"/>
              <a:gd name="adj2" fmla="val 690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is Soooo Cool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nk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2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838080" y="1371600"/>
            <a:ext cx="7086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356 * 25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371600" y="3124080"/>
            <a:ext cx="3276720" cy="3168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715000" y="2819520"/>
            <a:ext cx="2438280" cy="1676160"/>
          </a:xfrm>
          <a:prstGeom prst="wedgeEllipseCallout">
            <a:avLst>
              <a:gd name="adj1" fmla="val -73370"/>
              <a:gd name="adj2" fmla="val 457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don’t remember how to multiply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3048120" cy="2878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105520" y="2666880"/>
            <a:ext cx="2719440" cy="2940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90720" y="533520"/>
            <a:ext cx="2209680" cy="914400"/>
          </a:xfrm>
          <a:prstGeom prst="wedgeEllipseCallout">
            <a:avLst>
              <a:gd name="adj1" fmla="val 3162"/>
              <a:gd name="adj2" fmla="val 987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380880"/>
            <a:ext cx="4038480" cy="1981440"/>
          </a:xfrm>
          <a:prstGeom prst="wedgeEllipseCallout">
            <a:avLst>
              <a:gd name="adj1" fmla="val -3106"/>
              <a:gd name="adj2" fmla="val 6386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can help!!  Let me show you how to do Lattice Multi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3" name="chimes.wav"/>
      </p:stSnd>
    </p:sndAc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56 * 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2514600"/>
            <a:ext cx="655308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19320" y="39625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25146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25146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28600" y="2514600"/>
            <a:ext cx="320040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04920" y="2514600"/>
            <a:ext cx="5333760" cy="350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1828800" y="2514600"/>
            <a:ext cx="594360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4419360" y="3962520"/>
            <a:ext cx="335268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47920" y="1523880"/>
            <a:ext cx="16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00200" y="1676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09880" y="16002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9920" y="1676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91520" y="28954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91520" y="41911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1430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a grid the exact size of your problem.  A 2 digit number times a 3 digit number gets a 2 x 3 grid.  Draw a diagonal line in each b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56 * 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19320" y="2514600"/>
            <a:ext cx="655308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19320" y="39625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25146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638680" y="25146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28600" y="2514600"/>
            <a:ext cx="320040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04920" y="2514600"/>
            <a:ext cx="5333760" cy="350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1828800" y="2514600"/>
            <a:ext cx="594360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4419360" y="3962520"/>
            <a:ext cx="335268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47920" y="1523880"/>
            <a:ext cx="16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00200" y="1676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16002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19920" y="1676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391520" y="28954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91520" y="41911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15000" y="251460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705720" y="3048120"/>
            <a:ext cx="99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62120" y="129528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y 6 * 2 and place the answer in the grid where the lines me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56 * 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219320" y="2514600"/>
            <a:ext cx="655308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19320" y="39625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29000" y="25146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638680" y="25146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28600" y="2514600"/>
            <a:ext cx="320040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304920" y="2514600"/>
            <a:ext cx="5333760" cy="350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1828800" y="2514600"/>
            <a:ext cx="594360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4419360" y="3962520"/>
            <a:ext cx="335268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47920" y="1523880"/>
            <a:ext cx="16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00200" y="1676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09880" y="16002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19920" y="1676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391520" y="28954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91520" y="41911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251460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05720" y="3048120"/>
            <a:ext cx="99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48320" y="2971800"/>
            <a:ext cx="99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29000" y="251460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19320" y="990720"/>
            <a:ext cx="655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129528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y 5 * 2 and place the answer in the grid where the lines me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56 * 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19320" y="2514600"/>
            <a:ext cx="655308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19320" y="39625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29000" y="25146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638680" y="25146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8600" y="2514600"/>
            <a:ext cx="320040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304920" y="2514600"/>
            <a:ext cx="5333760" cy="350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828800" y="2514600"/>
            <a:ext cx="594360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419360" y="3962520"/>
            <a:ext cx="335268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1523880"/>
            <a:ext cx="16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00200" y="1676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09880" y="16002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1676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391520" y="28954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1911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15000" y="251460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705720" y="3048120"/>
            <a:ext cx="99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648320" y="2971800"/>
            <a:ext cx="99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429000" y="251460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38280" y="30481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19320" y="2514600"/>
            <a:ext cx="99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10666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y 3 * 2 and place the answer in the grid where the lines meet.  Use a zero as a place hol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56 * 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219320" y="2514600"/>
            <a:ext cx="655308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219320" y="39625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29000" y="25146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638680" y="25146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600" y="2514600"/>
            <a:ext cx="320040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04920" y="2514600"/>
            <a:ext cx="5333760" cy="350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1828800" y="2514600"/>
            <a:ext cx="594360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419360" y="3962520"/>
            <a:ext cx="335268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1523880"/>
            <a:ext cx="16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00200" y="1676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9880" y="16002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19920" y="1676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391520" y="28954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391520" y="41911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715000" y="251460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3048120"/>
            <a:ext cx="99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48320" y="2971800"/>
            <a:ext cx="99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29000" y="251460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38280" y="30481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19320" y="2514600"/>
            <a:ext cx="99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781680" y="44197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715000" y="39625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62120" y="129528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y 6 * 5 and place the answer in the grid where the lines me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56 * 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219320" y="2514600"/>
            <a:ext cx="655308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19320" y="39625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5146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638680" y="25146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228600" y="2514600"/>
            <a:ext cx="320040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304920" y="2514600"/>
            <a:ext cx="5333760" cy="350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1828800" y="2514600"/>
            <a:ext cx="594360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419360" y="3962520"/>
            <a:ext cx="335268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47920" y="1523880"/>
            <a:ext cx="16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00200" y="1676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09880" y="16002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19920" y="1676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391520" y="28954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391520" y="41911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715000" y="251460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705720" y="3048120"/>
            <a:ext cx="99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648320" y="2971800"/>
            <a:ext cx="99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429000" y="251460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38280" y="30481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19320" y="2514600"/>
            <a:ext cx="99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781680" y="44197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15000" y="39625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62120" y="129528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y 5 * 5 and place the answer in the grid where the lines me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44197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429000" y="39625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19:03:51Z</dcterms:created>
  <dc:creator>reynoldskathleen</dc:creator>
  <dc:description/>
  <dc:language>en-US</dc:language>
  <cp:lastModifiedBy>reynoldskathleen</cp:lastModifiedBy>
  <dcterms:modified xsi:type="dcterms:W3CDTF">2006-10-23T22:30:33Z</dcterms:modified>
  <cp:revision>6</cp:revision>
  <dc:subject/>
  <dc:title>Lattice Multiplication</dc:title>
</cp:coreProperties>
</file>